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05E-F369-4DC4-88EA-43B80814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D8D-70A4-483D-BCEB-D6D48E26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C73-F641-4CAA-BAF7-60A2F57C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6D4-8CB1-41EB-946F-6D635EC0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181-21A3-49CE-A6E8-9F37CE6B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430-6A16-429D-89ED-F8853BA3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95E-DCE2-4EDB-8B0E-E90F763E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EC1-7D4E-4F69-8466-C0EA093B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F2A-BC77-4E94-8B4E-92F6FF86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7A2-8AD9-43F0-8EB6-CA9877ED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E3F-5948-4700-8552-9360254F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B4E-6EAA-43F9-A610-F891C1C4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7E89-CB94-45AB-A5DE-849334A11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.03a: Interpreting Linear Models from Scatter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:                  If there’s no “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equation of the line of best fit for the data?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correlation coefficien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average increase of tasks per hou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153640" cy="1757520"/>
        </p:xfrm>
        <a:graphic>
          <a:graphicData uri="http://schemas.openxmlformats.org/drawingml/2006/table">
            <a:tbl>
              <a:tblPr/>
              <a:tblGrid>
                <a:gridCol w="2438640"/>
                <a:gridCol w="761760"/>
                <a:gridCol w="838440"/>
                <a:gridCol w="838080"/>
                <a:gridCol w="838080"/>
                <a:gridCol w="762120"/>
                <a:gridCol w="762120"/>
                <a:gridCol w="914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Tasks Comple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linear model that represents Don’s grow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the slope repres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00200" y="0"/>
          <a:ext cx="5867280" cy="386712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’s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ight (inch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equation y = 461.19x + 3492 represents the value of a work of art from 1964 to 2005. What does the number 461.19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Knight recorded the typing speeds (in words per minute) of 25 students and their weeks of experience. The line of best fit for the data is y = 4.4x + 18.9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umber of weeks of experience of a student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udent’s typing speed. What is the meaning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ntercept for this set of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9:22:16Z</dcterms:created>
  <dc:creator>Sharon Fieldman</dc:creator>
  <dc:description/>
  <dc:language>en-US</dc:language>
  <cp:lastModifiedBy>Sharon Fieldman</cp:lastModifiedBy>
  <dcterms:modified xsi:type="dcterms:W3CDTF">2010-12-10T19:14:54Z</dcterms:modified>
  <cp:revision>10</cp:revision>
  <dc:subject/>
  <dc:title>3.03a Interpreting Linear Models from Scatter Plots</dc:title>
</cp:coreProperties>
</file>